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9.png" ContentType="image/png"/>
  <Override PartName="/ppt/media/image23.jpeg" ContentType="image/jpeg"/>
  <Override PartName="/ppt/media/image1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25.jpeg" ContentType="image/jpeg"/>
  <Override PartName="/ppt/media/image2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5591-51A2-4FDE-9AFA-CCFB263E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3F7-50FB-4C1B-944F-E0357BC5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7D5-1AA8-4591-B974-C748B71E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D904-7D0B-4A19-BFDB-FC49C495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1228-7433-49D7-A412-9F36C57E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B83B-586B-400F-9043-E21ABB6D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F6CD-BC21-4C9D-8B5B-D87FBC2E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9809-1428-42F8-99F8-CCFBEDCA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7B45-DE20-4F1D-917B-7D44D15F3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166C-BA89-4FC4-8F7D-1B8029BE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97AD-DE2E-49CC-BBBF-599EB87C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EAE-0DDD-457F-8A4D-91E111C9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B8F8-050D-44D1-A8E5-E3AA32AD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6F00-2AC0-4F53-B270-07555D01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5499-BDA4-4C6C-BF12-D413BFDE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71379-E8D8-411F-8065-274FE511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C809-A50D-4B2D-90B7-FF6D62C5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EF3C-CA64-4B68-A86E-2E81CE2C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D0F-1D2B-4FBF-A6CF-E7D38012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7E63-65F4-4250-91E8-2A7FDB6C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881-812A-4CD8-A3D4-6D1576E8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EDA-8001-4B1B-ACF0-91B71D60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0E8-B12C-4E3F-ADF3-B37FABF5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F0B7-4026-437C-AB50-D21DEB5E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911-A950-48B8-AB70-3ED2A62BF4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9A64-FB79-41E2-8DF8-5553B6B52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2/26/Nuna3atZandvoort1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re.energy.gov/windandhydro/windpoweringamerica/images/windmaps/installed_capacity_2006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ernativ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king the Fossil Fuel Addiction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941c"/>
                </a:solidFill>
                <a:uFillTx/>
                <a:latin typeface="Arial"/>
              </a:rPr>
              <a:t>Solar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e941c"/>
                </a:solidFill>
                <a:uFillTx/>
                <a:latin typeface="Arial"/>
              </a:rPr>
              <a:t>Photovoltaics</a:t>
            </a:r>
            <a:r>
              <a:rPr b="1" lang="en-US" sz="3200" spc="-1" strike="noStrike">
                <a:solidFill>
                  <a:srgbClr val="ee941c"/>
                </a:solidFill>
                <a:latin typeface="Arial"/>
              </a:rPr>
              <a:t>: To make electric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ght to electricity at the atomic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a solid semiconductor material like silic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rbs photons and releases electrons that are captured and flow through a w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s electricit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9480" y="3124080"/>
            <a:ext cx="4233960" cy="3208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181480" y="2666880"/>
            <a:ext cx="367668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Direct Solar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assive solar energ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nlight passively heating a house, wate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roper building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51920"/>
            <a:ext cx="854100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e941c"/>
                </a:solidFill>
                <a:uFillTx/>
                <a:latin typeface="Arial"/>
              </a:rPr>
              <a:t>Solar tow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n tracking mirrors focus the heat of the sun (550 – 1500 F) on a receiver (1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Heats water or molten salt (2) (salt stores heat longer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nerates steam for electricity (3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895480" y="3809880"/>
            <a:ext cx="6019920" cy="2819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0" y="4495680"/>
            <a:ext cx="1752480" cy="2286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a4"/>
                </a:solidFill>
                <a:latin typeface="Arial"/>
              </a:rPr>
              <a:t>Steam gener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876920"/>
            <a:ext cx="0" cy="609480"/>
          </a:xfrm>
          <a:prstGeom prst="line">
            <a:avLst/>
          </a:prstGeom>
          <a:ln w="5724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447920" y="2209680"/>
            <a:ext cx="639756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enefits of Solar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less fuel sour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an be used in remote ar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Solar power is pollution free during u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Little mainte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ffff"/>
                </a:solidFill>
                <a:latin typeface="Arial"/>
              </a:rPr>
              <a:t>Costs are low, after initial set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Problems of Solar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’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ensive to start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silicon Solar cells are cost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large initial capital inves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lots of land (dese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esn’t create energy at night or cloudy days, need to store in battery on good d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30yrpayback-large" descr=""/>
          <p:cNvPicPr/>
          <p:nvPr/>
        </p:nvPicPr>
        <p:blipFill>
          <a:blip r:embed="rId2"/>
          <a:stretch/>
        </p:blipFill>
        <p:spPr>
          <a:xfrm>
            <a:off x="152280" y="0"/>
            <a:ext cx="8686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here is Solar Power being Utilized today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Jap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Top country for photovoltaic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rman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Second highest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United Stat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Third highest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s that are best suited for solar energy systems in the U.S. = des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Parts of Nevada, Utah, Arizona, New Mex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lar power for transportation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5" name="800px-Nuna3atZandvoort1" descr="Image:Nuna3atZandvoort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00200" y="1295280"/>
            <a:ext cx="5943600" cy="419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828800" y="57150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of a practical solar powered car have been an engineering goal for over 2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ternative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therm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ean Cur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gen Fuel 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ind Power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45752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500" spc="-1" strike="noStrike">
                <a:solidFill>
                  <a:srgbClr val="ffffff"/>
                </a:solidFill>
                <a:latin typeface="Calisto MT"/>
              </a:rPr>
              <a:t>Wind machines use blades to collect the wind’s kinetic energy. The wind turns the blades, which spin a shaft, which connects to a generator and makes electricity.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37609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viron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d CO2 and SO2 emi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the reliance on non-renewab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nergy needed to build turbine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ly recov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farms use less 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farm and graze around turb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27 wind turbines"/>
          <p:cNvPicPr/>
          <p:nvPr/>
        </p:nvPicPr>
        <p:blipFill>
          <a:blip r:embed="rId2"/>
          <a:stretch/>
        </p:blipFill>
        <p:spPr>
          <a:xfrm>
            <a:off x="2438280" y="3124080"/>
            <a:ext cx="43815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y and not aesthetically plea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cause deaths of birds and b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Economic Problems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onstruct and maint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 speeds are fastest off or near shor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constructing in these areas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ns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land: best sites often in remo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s, mountain p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048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737240" y="0"/>
            <a:ext cx="4406760" cy="3886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0" y="3048120"/>
            <a:ext cx="4724280" cy="3809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724280" y="3809880"/>
            <a:ext cx="44197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’s using win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a (3%) Germany (6%) Denmar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20%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A : less than 1% electricity from 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52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s with most wind turbine produc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ifornia and Tex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50 million dollar wind farm planned for North Dako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This map shows the installed wind capacity in megawatts.  As of September 30, 2006, 11,078 MW have been installed. Alaska, 2 MW; Hawaii, 49 MW; Washington, 680 MW; Oregon, 439 MW; California, 2320 MW; Idaho, 75 MW; Utah, 1 MW; Montana, 147 MW; Wyoming, 288 MW; Colorado, 291 MW; New Mexico, 407 MW; North Dakota, 178 MW; South Dakota, 44 MW; Nebraska, 73 MW; Kansas, 364 MW; Oklahoma, 475 MW; Texas, 2898 MW; Minnesota, 794 MW; Iowa, 837 MW; Wisconsin, 53 MW; Illinois, 107 MW; Tennessee, 29 MW; Michigan, 3 MW; Ohio, 7 MW; West Virginia, 66 MW; Pennsylvania, 153 MW; New Jersey, 8 MW; New York, 280 MW; Vermont, 6 MW; New Hampshire, 1 MW; Massachusetts, 4 MW; Rhode Island, 1 MW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8120" y="198108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Wind Farms in California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2296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uture of wind pow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energy production can exceed world energy consumption 5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wind power use in at least 3 windy states can provide energy for all the 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8534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Tidal 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merged water turb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fully develop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Effects on the environment (sealif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Machine f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big tide different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886200" y="3124080"/>
            <a:ext cx="5257800" cy="3733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3809880" y="0"/>
            <a:ext cx="53341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ofuels (Ethanol from Corn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 up 50% per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from corn kernels, need technology to use cellulose (agricultural waste)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support from farm state sen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corn"/>
          <p:cNvPicPr/>
          <p:nvPr/>
        </p:nvPicPr>
        <p:blipFill>
          <a:blip r:embed="rId2"/>
          <a:stretch/>
        </p:blipFill>
        <p:spPr>
          <a:xfrm>
            <a:off x="3124080" y="4114800"/>
            <a:ext cx="28195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me fact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2 gall of ethanol = energy of 28 gal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ufacture uses lots of natural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burn coal to make it!!!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shipped in pipelines…trucked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sel machines harvest it (CO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corn.jpg"/>
          <p:cNvPicPr/>
          <p:nvPr/>
        </p:nvPicPr>
        <p:blipFill>
          <a:blip r:embed="rId2"/>
          <a:stretch/>
        </p:blipFill>
        <p:spPr>
          <a:xfrm>
            <a:off x="7086600" y="4724280"/>
            <a:ext cx="167652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s only 10% more energy than required to make it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izing fields, harvesting, distilling to alcoh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ar Cane is 7X more efficient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ugar Cane needs less processing (don’t need to convert to sugar to distill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e heavily tax Brazilian ethanol to prevent competition her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corn.jpg"/>
          <p:cNvPicPr/>
          <p:nvPr/>
        </p:nvPicPr>
        <p:blipFill>
          <a:blip r:embed="rId2"/>
          <a:stretch/>
        </p:blipFill>
        <p:spPr>
          <a:xfrm>
            <a:off x="7162920" y="304920"/>
            <a:ext cx="134280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ellulose Ethano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fuel 1/3 of all c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vest waste stalks (no extra fertilizer to grow the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talk than ker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ter sugars removed, can burn lignin left over; get heat for cogeneration (elec energ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corn.jpg"/>
          <p:cNvPicPr/>
          <p:nvPr/>
        </p:nvPicPr>
        <p:blipFill>
          <a:blip r:embed="rId2"/>
          <a:stretch/>
        </p:blipFill>
        <p:spPr>
          <a:xfrm>
            <a:off x="6934320" y="380880"/>
            <a:ext cx="19810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Kudzu: the next biofuel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tatehouse11.jpg"/>
          <p:cNvPicPr/>
          <p:nvPr/>
        </p:nvPicPr>
        <p:blipFill>
          <a:blip r:embed="rId2"/>
          <a:stretch/>
        </p:blipFill>
        <p:spPr>
          <a:xfrm>
            <a:off x="1676520" y="1752480"/>
            <a:ext cx="60926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lgae makes fue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41000" cy="48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s almost anywhere with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oil from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A Bioreactor"/>
          <p:cNvPicPr/>
          <p:nvPr/>
        </p:nvPicPr>
        <p:blipFill>
          <a:blip r:embed="rId2"/>
          <a:stretch/>
        </p:blipFill>
        <p:spPr>
          <a:xfrm>
            <a:off x="1066680" y="2185920"/>
            <a:ext cx="647712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380880"/>
          <a:ext cx="7696080" cy="488952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e941c"/>
                          </a:solidFill>
                          <a:uFillTx/>
                          <a:latin typeface="Arial"/>
                        </a:rPr>
                        <a:t>Cor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e941c"/>
                          </a:solidFill>
                          <a:uFillTx/>
                          <a:latin typeface="Arial"/>
                        </a:rPr>
                        <a:t>Alga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gallons fuel per a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net 5 - 15,000 gallons fuel per ac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s a year to gro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s a few day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t be distilled and processed more extensively for biofu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gae is 50% oil, easily converted to biofue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 farml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grown anywhere (deserts.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s for food crop spac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ompetition for f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7" name="" descr="Algae"/>
          <p:cNvPicPr/>
          <p:nvPr/>
        </p:nvPicPr>
        <p:blipFill>
          <a:blip r:embed="rId2"/>
          <a:stretch/>
        </p:blipFill>
        <p:spPr>
          <a:xfrm>
            <a:off x="5105520" y="5181480"/>
            <a:ext cx="278604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corn.jpg"/>
          <p:cNvPicPr/>
          <p:nvPr/>
        </p:nvPicPr>
        <p:blipFill>
          <a:blip r:embed="rId3"/>
          <a:stretch/>
        </p:blipFill>
        <p:spPr>
          <a:xfrm>
            <a:off x="1828800" y="5105520"/>
            <a:ext cx="2057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ve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ing energy from surface wave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ee941c"/>
                </a:solidFill>
                <a:uFillTx/>
                <a:latin typeface="Arial"/>
              </a:rPr>
              <a:t>Geotherma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Heat taken from the Earth in steam or heated wate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In areas close to geological faults or hot spo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174240"/>
            <a:ext cx="3203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1320" y="1676160"/>
            <a:ext cx="3203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ar sh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174240"/>
            <a:ext cx="36608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346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sh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oating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of the waves acts as a pu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-237960"/>
            <a:ext cx="8510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680" y="533520"/>
            <a:ext cx="8540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nefi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duces significant amount of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ble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a machine that will work efficiently with waves of different siz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 in the aquatic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pends on wav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eing utilized toda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rtheastern &amp; northwestern coasts of United Sta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rs (when develope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lf stream, Florida straits current, California current; estuary in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veryone in the world interes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iomas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c material made by plants and/or anim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read about this in your artic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6251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ee941c"/>
                </a:solidFill>
                <a:uFillTx/>
                <a:latin typeface="Arial"/>
              </a:rPr>
              <a:t>High Heat Source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Magma heats rocks and aquifers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Drill a well to bring hot water/steam to surfac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team turns turbine to make electricity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ot Rock Geothermal Energy"/>
          <p:cNvPicPr/>
          <p:nvPr/>
        </p:nvPicPr>
        <p:blipFill>
          <a:blip r:embed="rId2"/>
          <a:stretch/>
        </p:blipFill>
        <p:spPr>
          <a:xfrm>
            <a:off x="6629400" y="2362320"/>
            <a:ext cx="236232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7e7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295280"/>
            <a:ext cx="8540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e941c"/>
                </a:solidFill>
                <a:uFillTx/>
                <a:latin typeface="Times New Roman"/>
              </a:rPr>
              <a:t>Low heat sources (Groundwat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ent virtually everyw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nstant temperature groundwater is used to pump through house to warm it or cool 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ore efficient, not converting one form of energy to another, simply transferring he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Map of USA Geothermal Power Hotspots"/>
          <p:cNvPicPr/>
          <p:nvPr/>
        </p:nvPicPr>
        <p:blipFill>
          <a:blip r:embed="rId2"/>
          <a:stretch/>
        </p:blipFill>
        <p:spPr>
          <a:xfrm>
            <a:off x="457200" y="152280"/>
            <a:ext cx="815040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imes New Roman"/>
              </a:rPr>
              <a:t>Benefit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ea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expens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und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ittle land disturba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Times New Roman"/>
              </a:rPr>
              <a:t>Problems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is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emissions and hazardous miner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monia, sulfur dioxide, hydrogen sulf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stly to install geothermal heat pump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20:05:18Z</dcterms:created>
  <dc:creator>tosborne</dc:creator>
  <dc:description/>
  <dc:language>en-US</dc:language>
  <cp:lastModifiedBy>tosborne</cp:lastModifiedBy>
  <dcterms:modified xsi:type="dcterms:W3CDTF">2009-01-13T15:54:23Z</dcterms:modified>
  <cp:revision>26</cp:revision>
  <dc:subject/>
  <dc:title>Slide 1</dc:title>
</cp:coreProperties>
</file>